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1B6-56AA-4755-B9BE-F6908A0A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77F-CC0B-41E4-8D3B-69A1C69F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6B8-1741-4D8C-8A22-64E19AA0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A5F-3F02-4E32-8F4D-77D6DD8F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C71-E613-4F61-A465-F1F57567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D76-B9CC-4B70-9601-C056AF28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40C-073C-4B55-85FA-7663FFC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679-1571-4D2E-B180-CBBBD23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DC9-338C-4215-8510-1D8B73A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EAE-297A-4B6B-B62E-3A266170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253-C4C4-4130-8FB6-88F455A7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6D1-F6CA-4610-8CEB-C8FF19C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8E58-C073-4EB3-945F-0ABC2338D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oung" descr=""/>
          <p:cNvPicPr/>
          <p:nvPr/>
        </p:nvPicPr>
        <p:blipFill>
          <a:blip r:embed="rId1"/>
          <a:stretch/>
        </p:blipFill>
        <p:spPr>
          <a:xfrm>
            <a:off x="-10591920" y="-5683320"/>
            <a:ext cx="35204400" cy="2053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488400" y="2209680"/>
            <a:ext cx="533520" cy="152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382880" y="2286000"/>
            <a:ext cx="228600" cy="228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78520" y="5562720"/>
            <a:ext cx="53316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21720" y="3048120"/>
            <a:ext cx="533160" cy="152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726280" y="3657600"/>
            <a:ext cx="533520" cy="152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954880" y="2819520"/>
            <a:ext cx="304920" cy="30456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88400" y="2514600"/>
            <a:ext cx="304920" cy="30492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21720" y="3657600"/>
            <a:ext cx="304560" cy="30492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16800" y="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752480" y="129528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2590920" y="251460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92520" y="906768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49520" y="8534520"/>
            <a:ext cx="30456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92520" y="68580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182480" y="739152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92320" y="6858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5880" y="137160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0" y="220968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895480" y="11430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8610480" y="41148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181480" y="34290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2590920" y="487692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838080" y="563868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02870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838188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50532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210680" y="998208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0" y="1371600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92720" y="12192120"/>
            <a:ext cx="30456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21520" y="8077320"/>
            <a:ext cx="30456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440280" y="609588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439280" y="121932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621120" y="4648320"/>
            <a:ext cx="304560" cy="304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5486400" y="-266688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4267080" y="-32004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4800600" y="-167652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5791320" y="-99072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6248520" y="-68580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8305920" y="-129528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7696080" y="2286000"/>
            <a:ext cx="30456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8686800" y="1905120"/>
            <a:ext cx="304920" cy="3045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905120" y="457200"/>
            <a:ext cx="304920" cy="304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59000" y="10667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934320" y="-76212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467480" y="-144792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7467480" y="-198108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858000" y="-838080"/>
            <a:ext cx="53352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7696080" y="-1143000"/>
            <a:ext cx="53316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543800" y="-2209680"/>
            <a:ext cx="53352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06720" y="10363320"/>
            <a:ext cx="53316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21120" y="9601200"/>
            <a:ext cx="304560" cy="3049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6019920" y="838080"/>
            <a:ext cx="304920" cy="3049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781680" y="380880"/>
            <a:ext cx="304560" cy="3049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7315200" y="380880"/>
            <a:ext cx="304920" cy="3049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78320" y="9220320"/>
            <a:ext cx="533160" cy="152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848720" y="380880"/>
            <a:ext cx="533520" cy="152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6629400" y="380880"/>
            <a:ext cx="228600" cy="228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248520" y="1143000"/>
            <a:ext cx="228600" cy="228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5334120" y="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5334120" y="-11430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4724280" y="-121932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962520" y="-121932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5486400" y="-685800"/>
            <a:ext cx="53352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4648320" y="-99072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4038480" y="-99072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800600" y="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809880" y="9144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809880" y="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3200400" y="685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590920" y="3808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3733920" y="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362320" y="4572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3276720" y="609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267080" y="685800"/>
            <a:ext cx="5331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3880" y="2133720"/>
            <a:ext cx="304560" cy="304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057400"/>
            <a:ext cx="304920" cy="304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66880"/>
            <a:ext cx="304920" cy="304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62120" y="2057400"/>
            <a:ext cx="228600" cy="228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1143000" y="2819520"/>
            <a:ext cx="228600" cy="228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267080"/>
            <a:ext cx="228600" cy="228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905120"/>
            <a:ext cx="53352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10363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3886200" y="21337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4572000" y="160020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4648320" y="91440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9753480"/>
            <a:ext cx="533520" cy="152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4114800" y="2438280"/>
            <a:ext cx="533520" cy="152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419720" y="1752480"/>
            <a:ext cx="2286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800600" y="838080"/>
            <a:ext cx="2286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278720" y="457200"/>
            <a:ext cx="533160" cy="152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533520" y="380880"/>
            <a:ext cx="533520" cy="1526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600200" y="-2590920"/>
            <a:ext cx="533520" cy="1526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-2514600"/>
            <a:ext cx="304920" cy="3049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0120" y="-304920"/>
            <a:ext cx="304560" cy="3049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33520"/>
            <a:ext cx="304920" cy="3045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-1295280"/>
            <a:ext cx="304920" cy="3045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838080" y="-3200400"/>
            <a:ext cx="304560" cy="30492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2590920" y="-838080"/>
            <a:ext cx="304920" cy="30456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609480" y="-1295280"/>
            <a:ext cx="228600" cy="2286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2895480" y="-838080"/>
            <a:ext cx="228600" cy="2286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-228600"/>
            <a:ext cx="228600" cy="2286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01200" y="9220320"/>
            <a:ext cx="304920" cy="3045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72800" y="6553080"/>
            <a:ext cx="304920" cy="30492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01200" y="5562720"/>
            <a:ext cx="304920" cy="3045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77520" y="8305920"/>
            <a:ext cx="533160" cy="152280"/>
          </a:xfrm>
          <a:prstGeom prst="rect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029200"/>
            <a:ext cx="228600" cy="228600"/>
          </a:xfrm>
          <a:prstGeom prst="rect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9480" y="6019920"/>
            <a:ext cx="228600" cy="228600"/>
          </a:xfrm>
          <a:prstGeom prst="rect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611480" y="3048120"/>
            <a:ext cx="304920" cy="304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92720" y="6095880"/>
            <a:ext cx="304560" cy="304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49720" y="3809880"/>
            <a:ext cx="228600" cy="228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2:29:10Z</dcterms:created>
  <dc:creator>Mike French</dc:creator>
  <dc:description/>
  <dc:language>en-US</dc:language>
  <cp:lastModifiedBy>Mike French</cp:lastModifiedBy>
  <dcterms:modified xsi:type="dcterms:W3CDTF">2001-03-16T15:50:57Z</dcterms:modified>
  <cp:revision>1</cp:revision>
  <dc:subject/>
  <dc:title>No Slide Title</dc:title>
</cp:coreProperties>
</file>