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B7B-B8D6-4A22-82C3-2599714B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2AF-F97E-483B-B578-7116CACB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0D6-D595-4014-A786-BEC4B69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07C-EED1-49AE-93E0-72B6B664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227-46E2-4D6C-A2D2-3C86C7F3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D98-6F54-4405-A2BC-76DC9CCD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661-0D59-4F35-B540-01DF91B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651-430F-4CC3-A5E7-2465DB0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344-33CC-4323-BE21-46E55A4B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DED-3060-46F9-A03E-7825555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F7A-E109-4D1A-B514-617E54CE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AA0-3CDE-4542-84D0-22DD470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5B7700-10A9-4411-8831-643936F5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2160" y="2571840"/>
            <a:ext cx="139680" cy="1396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60480"/>
            <a:ext cx="3047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19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37200" y="539100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8840" y="2127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7280" y="45784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5200" y="37274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97720" y="28004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521352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7480" y="523872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8840" y="42609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43440" y="34862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3308400"/>
            <a:ext cx="14004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3240" y="216540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65600" y="213984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05640"/>
            <a:ext cx="139680" cy="139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4680" y="6330960"/>
            <a:ext cx="14004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6280" y="3994200"/>
            <a:ext cx="139680" cy="13968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62280" y="4997520"/>
            <a:ext cx="139680" cy="13968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0480" y="3854520"/>
            <a:ext cx="139680" cy="13968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8280" y="352440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9680" y="365112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2160" y="3448080"/>
            <a:ext cx="139680" cy="1396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56240" y="468000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1400" y="452772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474336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7240" y="4311720"/>
            <a:ext cx="139680" cy="1396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1120" y="5403960"/>
            <a:ext cx="139680" cy="139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64080" y="4921200"/>
            <a:ext cx="139680" cy="139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94320" y="560700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1160" y="54928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92600" y="5073480"/>
            <a:ext cx="139680" cy="140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0120" y="601344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02360" y="620388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6920" y="2927520"/>
            <a:ext cx="139680" cy="1396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16360" y="2940120"/>
            <a:ext cx="139680" cy="1396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1000" y="2655720"/>
            <a:ext cx="2286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84520" y="4025880"/>
            <a:ext cx="444240" cy="152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32040" y="4851360"/>
            <a:ext cx="228600" cy="2286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43880" y="4406760"/>
            <a:ext cx="44424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92560" y="3402000"/>
            <a:ext cx="4442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4880" y="1951200"/>
            <a:ext cx="44460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6360" y="5308560"/>
            <a:ext cx="4442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448776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40240" y="5435640"/>
            <a:ext cx="228600" cy="2286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89640" y="6016680"/>
            <a:ext cx="2286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4000" y="5621400"/>
            <a:ext cx="2286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4200" y="423864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97240" y="2313000"/>
            <a:ext cx="44424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4920" y="4056120"/>
            <a:ext cx="228600" cy="2286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8280" y="329256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2600" y="402264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8600" y="293544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9520" y="5823000"/>
            <a:ext cx="444600" cy="1522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1080" y="360684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6200" y="3313080"/>
            <a:ext cx="44460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17640" y="4826160"/>
            <a:ext cx="228600" cy="2286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4941720"/>
            <a:ext cx="444600" cy="1526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22:53:06Z</dcterms:created>
  <dc:creator>ANDY NEW</dc:creator>
  <dc:description/>
  <dc:language>en-US</dc:language>
  <cp:lastModifiedBy>Mike French</cp:lastModifiedBy>
  <dcterms:modified xsi:type="dcterms:W3CDTF">2001-03-16T16:46:02Z</dcterms:modified>
  <cp:revision>64</cp:revision>
  <dc:subject/>
  <dc:title>No Slide Title</dc:title>
</cp:coreProperties>
</file>